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E9B8-17E8-47E6-AAAD-6B8AEB6D7EFD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Revised Report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New Local queue to store Archived Account and Balance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Service will be modified to store Report data into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pplication EXE will be modified to fetch Report Information locally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racle database at Member End will be modified to store the related inform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all the archived data from their local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Users can see the current data from the Host End (DB2 Databas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wo different options are added to the GUI for viewing the past data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Host End will send the balances and account information to the new local queu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51920" y="76212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WORKING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 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QUIREMEN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5720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REPORT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76960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6960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URRENT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On-Demand Report Processing at the Central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is stored as Data File on the Member Server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processing query consumes high usage of CPU resources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QUIREM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arket Participants should get same Report Information without causing High CPU Utilization at Host End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ransaction throughput should be within acceptable limits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The selected reports will be available locally from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Host side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alculate balances of each ISIN for all members 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nd balances to corresponding Members through MQ Series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6676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 (contd.)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At Member End, Report Service will read the Report messages and store data into local Oracle Databas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port Request will be processed locally on the Oracle Databas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REVISED ARCHITECTUR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752480"/>
          <a:ext cx="701028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01028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At EOD, Host will populate Balances of each ISIN for each member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MQ Message format will b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parate Report Type for EOD Member End Report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DESIGN CONSIDERATION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733920"/>
          <a:ext cx="822960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822960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rator</cp:lastModifiedBy>
  <cp:lastPrinted>2001-09-06T04:03:13Z</cp:lastPrinted>
  <dcterms:modified xsi:type="dcterms:W3CDTF">2005-03-23T07:34:43Z</dcterms:modified>
  <cp:revision>475</cp:revision>
  <dc:subject/>
  <dc:title>Software Project Management</dc:title>
</cp:coreProperties>
</file>