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1DCD-DA8A-4B9D-AD8B-AE13BDE5CDC4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Installation Manual-Serve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7: Input File Lo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lick “…” to select In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2025720"/>
          <a:ext cx="60962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25720"/>
                    <a:ext cx="60962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8: InputFile selec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1600200"/>
          <a:ext cx="63244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3244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9: Select Directory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1752480"/>
          <a:ext cx="777240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0: Set Registry Valu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838080" y="1752480"/>
          <a:ext cx="76964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1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2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676520"/>
          <a:ext cx="78483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8483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3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600200"/>
          <a:ext cx="7620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20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4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2971800"/>
          <a:ext cx="76964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696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5: COM+ Install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19320" y="1828800"/>
          <a:ext cx="67816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7816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6: COM+ Installation continues..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1622520"/>
          <a:ext cx="76964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22520"/>
                    <a:ext cx="76964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TEPS OF INSTALL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7: Setup Comple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66680" y="1676520"/>
          <a:ext cx="72392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2392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8: Access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19320" y="1886040"/>
          <a:ext cx="6858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86040"/>
                    <a:ext cx="6858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9: Login to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666880" y="2590920"/>
          <a:ext cx="4114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0: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72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PDONDS Server Setup 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Following slides guide through the installation proced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: 1 Generate Inpu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 of GenerateInputs.exe: 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\Support File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8120" y="3429000"/>
          <a:ext cx="213336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21333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: Run GenerateInpu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13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Location of setup.ex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: Run RBI PDONDS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9880" y="3657600"/>
          <a:ext cx="137160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657600"/>
                    <a:ext cx="13716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66680" y="1828800"/>
          <a:ext cx="73152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4: Setup star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66680" y="1752480"/>
          <a:ext cx="7239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239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5: Click “OK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6: Click “UPGRADATION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688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2025720"/>
          <a:ext cx="60962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25720"/>
                    <a:ext cx="60962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artor</cp:lastModifiedBy>
  <cp:lastPrinted>2001-09-06T04:03:13Z</cp:lastPrinted>
  <dcterms:modified xsi:type="dcterms:W3CDTF">2005-03-28T08:38:32Z</dcterms:modified>
  <cp:revision>475</cp:revision>
  <dc:subject/>
  <dc:title>Software Project Management</dc:title>
</cp:coreProperties>
</file>