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51720" y="626760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8433-59D0-4C97-A51A-4D9FC87417CF}" type="slidenum">
              <a:rPr b="1" lang="en-US" sz="1600" spc="-1" strike="noStrike">
                <a:solidFill>
                  <a:srgbClr val="777777"/>
                </a:solidFill>
                <a:latin typeface="Myriad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2210040" cy="1719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38080" y="26668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666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2767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7432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Myriad Roman"/>
              </a:rPr>
              <a:t>RESERVE BANK OF IN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06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Myriad Roman"/>
              </a:rPr>
              <a:t>PDO – NDS COMPUTE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511956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Myriad Roman"/>
              </a:rPr>
              <a:t>Installation Manual-Client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7: InputFile selec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886040"/>
          <a:ext cx="73152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86040"/>
                    <a:ext cx="73152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8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1828800"/>
          <a:ext cx="74674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4674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9: Choose Program Gro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752480"/>
          <a:ext cx="7772400" cy="43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0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676520"/>
          <a:ext cx="762012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1: Setting Registry Valu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2: Setup Continues 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971800"/>
          <a:ext cx="76964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71800"/>
                    <a:ext cx="76964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3: Setup Completed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66680" y="1714680"/>
          <a:ext cx="723924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14680"/>
                    <a:ext cx="72392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14:Export RBIPDONDS COM+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5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6: Select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752480"/>
          <a:ext cx="80010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TEPS OF INSTALLATION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553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7: Export starts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7696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96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8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76520"/>
            <a:ext cx="8001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pecify the path for storing generated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C:\RBIPDONDS.M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Application Proxy radio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efer next slide for the Screen Sho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19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1752480"/>
          <a:ext cx="716256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0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14400" y="1676520"/>
          <a:ext cx="7391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391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1: Export…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676520"/>
          <a:ext cx="77724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2:Location of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Server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3809880"/>
          <a:ext cx="20574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809880"/>
                    <a:ext cx="20574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3:Copy msi and cab fil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:\Program Files\RBIPDONDSSetUp\ServerDlls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90920" y="4038480"/>
          <a:ext cx="3276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038480"/>
                    <a:ext cx="3276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4:Double click msi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319480"/>
          <a:ext cx="81788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19480"/>
                    <a:ext cx="81788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5:Setting Component Propertie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Location: On Client machine: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Control Panel\Administrative Tools\Component Services\Computers\My Computer\COM+ Applications\RBIPDONDS Component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6: Right Click Component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000160"/>
          <a:ext cx="79246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9246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3276720" y="1447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INTRODUC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PDONDS Client Setup 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Following slides guide through the installation procedure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7:“Component Properties” window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47800" y="1752480"/>
            <a:ext cx="3848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28: Select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7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24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exp9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9:Remote Serv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Under Remote Server Name: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Enter fully qualified name of the Member Server and click “OK”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This name can be obtained by: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Right click “My Computer” on Desktop on Server Machine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Properties”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lect “Network Identification” tab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Full Computer Name” displays the name to be entered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0:Full Computer Nam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1676520"/>
          <a:ext cx="4648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4648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1: “Activation” tab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771560"/>
          <a:ext cx="586728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1560"/>
                    <a:ext cx="58672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2: Access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886040"/>
          <a:ext cx="685800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86040"/>
                    <a:ext cx="685800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3: Login to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666880" y="2590920"/>
          <a:ext cx="41148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4: PDONDS Appli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72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2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: 1 Generating Input File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Input file is already generated using GenerateInputs.exe during PDONDS Server installation.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Location of Input file: Server Machine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The same input file should be used for PDONDS Client installation.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Location of setup.ex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Roman"/>
              </a:rPr>
              <a:t>Setup folder</a:t>
            </a: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2: Run RBI PDONDS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9880" y="3657600"/>
          <a:ext cx="1371600" cy="13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657600"/>
                    <a:ext cx="13716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066680" y="1828800"/>
          <a:ext cx="73152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3: Setup starts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66680" y="1752480"/>
          <a:ext cx="7239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239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4: Click “OK”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5: Select Client Setup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Myriad Roman"/>
              </a:rPr>
              <a:t>STEP 6: Input File Location</a:t>
            </a:r>
            <a:endParaRPr b="0" lang="en-US" sz="36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600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lick “…” to select Inp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133720"/>
          <a:ext cx="71629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1629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Administartor</cp:lastModifiedBy>
  <cp:lastPrinted>2001-09-06T04:03:13Z</cp:lastPrinted>
  <dcterms:modified xsi:type="dcterms:W3CDTF">2005-03-28T09:06:32Z</dcterms:modified>
  <cp:revision>495</cp:revision>
  <dc:subject/>
  <dc:title>Software Project Management</dc:title>
</cp:coreProperties>
</file>