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CFBB-73E9-4E1A-8480-5487FA0A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D97-8E76-4F10-8A4C-9F3168F4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4F8-BC63-4B43-8189-F7812D40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5A61-6A88-4570-A72E-7289244D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B407-CCAD-4D57-9E17-7358D9BC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90F2-07D9-4F3D-8FF1-DA71E0B5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436B-79F3-4450-B008-A67FBB67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C539-D841-4AEB-9B0E-2900212A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DCD1-64A9-4EB0-AFED-34A0C511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457A-2972-4A20-B5E6-6875EAEC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1EA4-B2CD-4575-85FF-A33E9C09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33AE-794F-4C39-8870-22B99574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ACC7-F4FC-44BE-A2BE-6B40351F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AFD7-9847-4CC5-A0EF-D76521D6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C57A-EE2D-4301-9858-211410C2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C83D-3CF1-44BE-A458-D05614DD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8583-A84A-4EC6-8908-BDD00301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2A1E-F8AB-47A4-BCCD-A55749A8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105C-17AD-49DE-9CBE-5C2F1A7F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48C-B596-4D9E-AAE4-A28EB24D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FE9-D292-458A-A173-ACC65E4C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DF5-F046-4874-A41A-44DE20A1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FFA-4B78-4003-9938-822F7001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D11F-4461-45D8-AE9E-E8B77E73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6C43-B36E-439A-8F0C-0BECB59A9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B65A-72A2-4C28-8B33-D834D8B9B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enguiat Bk BT"/>
                <a:ea typeface="Times New Roman"/>
              </a:rPr>
              <a:t>DISAGGREGATED DATA ON BALANCE OF PAYMENTS (BoP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Benguiat Bk BT"/>
                <a:ea typeface="Times New Roman"/>
              </a:rPr>
              <a:t>by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Benguiat Bk BT"/>
                <a:ea typeface="Times New Roman"/>
              </a:rPr>
              <a:t>Dr. B. K. Bhoi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Benguiat Bk BT"/>
                <a:ea typeface="Times New Roman"/>
              </a:rPr>
              <a:t>Director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Benguiat Bk BT"/>
              </a:rPr>
              <a:t>Division of International Finance, DEAP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Benguiat Bk BT"/>
                <a:ea typeface="Times New Roman"/>
              </a:rPr>
              <a:t>Reserve Bank of Indi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1 Exports / imports of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Value of export bills N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alisation of export bills sent o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dvance receipts against ex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2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Surplus freight/passenger fare b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dian shipping/airlines compani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operating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Operating expenses of foreig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irlines/shipping compani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operating in In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Operational leasing with c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3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urchases towards travel (includes foreign TCs, currency notes over the counter by hotels, emporium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4 Communica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osta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Courie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Telecommunica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Satellit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5 Construc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6 Insuranc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Life insu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Freight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7 Financ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Financial Intermediation (bank charges,   collection charges, LC charges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vestment Banking – brokerage, underwriting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8 Computer and Informa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Software implem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Database and data processing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pair &amp; maintenance of computer an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News agencie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9 Royalties &amp; License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0 Other busines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Merchant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Commission on exports and im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Leg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ccounting, Auditing, Book keeping and Tax consultanc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Business &amp; Management consultancy and Public Rela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dvertising, Trade fare and market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&amp;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rchitectural, Engineering and other Technic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gricultural, Mining &amp; Onsite process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Maintenance of office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1 Personal, Cultural and Recreation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udio-Visual and relat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ersonal &amp; cultural services (related to Museums, Libraries, Sporting activities etc. &amp; Fees for corresponding cour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2 Government not included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Maintenance of Foreign Embassies in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Maintenance of Indian Embassies Ab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3 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mittances towards family maintenance &amp; s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ersonal gifts &amp; do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Donations to religious &amp; charitable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Grants &amp; donations to Governments &amp; charitable institutions established by Gov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ceipt &amp; refund of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4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Compensation of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est on lo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est on debt securities – debentures, bonds, F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est received/paid by ADs on their own investment/loan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5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funds, r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national bi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ceipts below US $ 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ayments below Rs 5,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olicy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dia’s subscription to IMF’s Special Data Dissemination Standards (SD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-Agency Task Force’s Manual on Statistics of International Trade i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clusion of Services and Negotiations under WTO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Lucida Handwriting"/>
                <a:ea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6858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Trans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vantGarde Md BT"/>
              </a:rPr>
              <a:t>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Passe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Fr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vantGarde Md BT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Passe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Fr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vantGarde Md BT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78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Benguiat Bk BT"/>
                <a:ea typeface="Times New Roman"/>
              </a:rPr>
              <a:t>Constitution of Technical Group on Statistics of International Trade in Services</a:t>
            </a:r>
            <a:br>
              <a:rPr sz="2600"/>
            </a:b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</a:t>
            </a:r>
            <a:r>
              <a:rPr b="1" lang="en-US" sz="2800" spc="-1" strike="noStrike">
                <a:solidFill>
                  <a:srgbClr val="ff00ff"/>
                </a:solidFill>
                <a:latin typeface="Benguiat Bk BT"/>
                <a:ea typeface="Times New Roman"/>
              </a:rPr>
              <a:t>Major Terms of Reference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Implications of the Manual on Statistics o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national Trade i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*  Identification of appropriate purpos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*  Modification to A-2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*  Consequent revisions to Foreign Exchan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Transactions-Electronic Reporting Syste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(FET - ERS) software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Modes of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Mode1 – Cross border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Mode 2 – Consumption a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Mode 3 – Commercial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Mode 4 -  Presence of Natural Per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7324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Cod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S -  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 - 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Four digit cod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No of purpose code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Sale  – increased from 64 to 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urchase – increased from 58 to 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</a:rPr>
              <a:t>Cut-off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</a:rPr>
              <a:t>Unclassified Receipt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Main Group Numbers /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0 Capital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1 Exports / imports of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2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3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4 Communica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5 Construc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6 Insuranc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7 Financia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7324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Main Group Numbers /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08 Computer &amp; informa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09 Royalties &amp; license f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0 Other busines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1 Personal, cultural and recreat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2 Government services not inclu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elsewhere (G. n.i.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3 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4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5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7324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0 Capital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F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ortfolio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Loans from non-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Non-resident depo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patriation of Overseas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rector R B I</cp:lastModifiedBy>
  <dcterms:modified xsi:type="dcterms:W3CDTF">2003-12-12T10:16:16Z</dcterms:modified>
  <cp:revision>16</cp:revision>
  <dc:subject/>
  <dc:title>PowerPoint Presentation</dc:title>
</cp:coreProperties>
</file>