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8EE6-DF01-4C03-9F8E-A67ABBF6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7648-1139-4890-A864-1DBC59ED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514F-CC6C-4D04-A5F9-8979D8FA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B5ED-B16B-4996-AF8D-5820FF8C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4551-F411-4078-9A18-E3D566C0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B089-43F3-4755-81CD-EEE783CC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3CF7-1449-48C1-871F-470D2EDF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BA91-B318-4078-A22A-32B6AC14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126C-EA0E-42C0-9B65-526EC356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A345-DAEF-420B-AAD2-B456EC3E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9FEA-9369-48DB-B6F5-335B681A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D11C-C8EB-491D-B34A-0FF40B4C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123A-82E2-4068-81C3-03DC486F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79E0-492A-4A65-BD9C-287C03FB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3A81-C691-42FD-A047-75B20B15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B572-F9E8-4D18-BC03-7840ABF0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D510-FA7A-4B75-B0E6-49B8531B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2CD8-49B9-4190-A592-F08B3BA5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83CF-36DB-414F-936A-A2290633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A3A7-6B0B-4211-92C2-4A305FBD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7D10-171D-4482-8C51-8110B53F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3C2-583C-46F2-AA23-64670BD4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8AF4-E90B-496B-9F49-3BBE756E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B60-C626-40BB-892D-509B95DB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D4A8-12E1-47B1-A773-A9FAED7BB519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6BE9-7517-450D-A7EA-75A288953002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ALANCE OF PAYMENTS :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NCEPTUAL AND COMPILATION ISSU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by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B.K. Bhoi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Director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Division of International Finance, DEAP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Reserve Bank of Indi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Banking Capital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ebt Creating Flows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f3"/>
                </a:solidFill>
                <a:latin typeface="Arial"/>
              </a:rPr>
              <a:t>Assets / Liabiliti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f3"/>
                </a:solidFill>
                <a:latin typeface="Arial"/>
              </a:rPr>
              <a:t>Non-resident Deposi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Areas of Concer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f3"/>
                </a:solidFill>
                <a:latin typeface="Arial"/>
              </a:rPr>
              <a:t>Reconciliation of merchandise trade data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f3"/>
                </a:solidFill>
                <a:latin typeface="Arial"/>
              </a:rPr>
              <a:t>More detailed data on trade in services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f3"/>
                </a:solidFill>
                <a:latin typeface="Arial"/>
              </a:rPr>
              <a:t>Refined data on FDI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f3"/>
                </a:solidFill>
                <a:latin typeface="Arial"/>
              </a:rPr>
              <a:t>Portfolio investment by NRIs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ff66ff"/>
                </a:solidFill>
                <a:latin typeface="Monotype Corsiva"/>
              </a:rPr>
              <a:t>Thanks</a:t>
            </a:r>
            <a:endParaRPr b="0" lang="en-US" sz="7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Definition of Balance of Pay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f3"/>
                </a:solidFill>
                <a:latin typeface="Arial"/>
              </a:rPr>
              <a:t>It is a Systematic record of all economic transaction between the residents of a country and the rest of the world during a specific period, i.e. usually a financial year.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f3"/>
                </a:solidFill>
                <a:latin typeface="Arial"/>
              </a:rPr>
              <a:t>It is based on double entry system of recording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Broad Format of BoP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Credit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Debit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Ne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812880" indent="-812880">
              <a:lnSpc>
                <a:spcPct val="60000"/>
              </a:lnSpc>
              <a:spcBef>
                <a:spcPts val="700"/>
              </a:spcBef>
              <a:buClr>
                <a:srgbClr val="4d4df3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Current Accoun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11685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f3"/>
                </a:solidFill>
                <a:latin typeface="Arial"/>
              </a:rPr>
              <a:t>I. Merchandise Trad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11685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f3"/>
                </a:solidFill>
                <a:latin typeface="Arial"/>
              </a:rPr>
              <a:t>II. Invisibl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4d4df3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Capital Accoun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f3"/>
                </a:solidFill>
                <a:latin typeface="Arial"/>
              </a:rPr>
              <a:t>Foreign Investme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f3"/>
                </a:solidFill>
                <a:latin typeface="Arial"/>
              </a:rPr>
              <a:t>Loa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f3"/>
                </a:solidFill>
                <a:latin typeface="Arial"/>
              </a:rPr>
              <a:t>Banking Capit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f3"/>
                </a:solidFill>
                <a:latin typeface="Arial"/>
              </a:rPr>
              <a:t>Rupee Debt Service Servic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f3"/>
                </a:solidFill>
                <a:latin typeface="Arial"/>
              </a:rPr>
              <a:t>Other Capit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4d4df3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Errors &amp; Ommissio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4d4df3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Overall Balance (A + B + C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4d4df3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Monetary Movemen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erchandise Trad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Items 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Institutions involved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b852"/>
                </a:solidFill>
                <a:latin typeface="Arial"/>
              </a:rPr>
              <a:t>Exports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4d4df3"/>
                </a:solidFill>
                <a:latin typeface="Arial"/>
              </a:rPr>
              <a:t>f.o.b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Customs, DGCI&amp;S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(GR/PP form)/DTR,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ADs (NEC form),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        ECD {GR (original)},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        DESACS / DEAP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b852"/>
                </a:solidFill>
                <a:latin typeface="Arial"/>
              </a:rPr>
              <a:t>Imports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4d4df3"/>
                </a:solidFill>
                <a:latin typeface="Arial"/>
              </a:rPr>
              <a:t>c.i.f.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Customs (BE),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ADs/ECD (R-Return)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        DESACS/DEAP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Difference Between BoP &amp; DGCI&amp;S Data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PP Exports not covered in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DGCI&amp;S Data;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No BoP Record with Nepal &amp; Bhutan;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Ships &amp; Aircrafts, Oil Defence Stocks;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Import under external Assista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Valuation: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Converted at rates notified by the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            Ministry of Commerce;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Average Exchange Rate for the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            respective month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Timing: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On the basis of shipments;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On the basis of Payments;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Lead/Lag in Payments/Shipments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(3-4 month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Differential Reporting : Motiv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f3"/>
                </a:solidFill>
                <a:latin typeface="Arial"/>
              </a:rPr>
              <a:t>Money launder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f3"/>
                </a:solidFill>
                <a:latin typeface="Arial"/>
              </a:rPr>
              <a:t>Payment negotiated outside banking channel / retained abroad for under-invoicing of impor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f3"/>
                </a:solidFill>
                <a:latin typeface="Arial"/>
              </a:rPr>
              <a:t>Export credit arbitrag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f3"/>
                </a:solidFill>
                <a:latin typeface="Arial"/>
              </a:rPr>
              <a:t>Export incentiv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f3"/>
                </a:solidFill>
                <a:latin typeface="Arial"/>
              </a:rPr>
              <a:t>Avoidance of import duty in destination countr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visib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53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Items 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   Credit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 Debit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Ne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53400" indent="-653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Servic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6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Tra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6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Transport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6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Insura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6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G.N.I.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6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Miscellaneou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53400" indent="-653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Transfer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6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Official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6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Privat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53400" indent="-653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Inco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7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Investment Incom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7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Compensation of Employe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Foreign Investment</a:t>
            </a:r>
            <a:br>
              <a:rPr sz="40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on-debt creating flows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Direct Investmen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Equity Capital (SIA/FIPB, RBI automatic approvals, NRI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Reinvested earning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Inter-corporate debt transactio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Portfolio Investmen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Equity / Debt by FII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ADRs / GDR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Offshore fund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Loans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Debt Creating Flows)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f3"/>
                </a:solidFill>
                <a:latin typeface="Arial"/>
              </a:rPr>
              <a:t>External Assistanc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f3"/>
                </a:solidFill>
                <a:latin typeface="Arial"/>
              </a:rPr>
              <a:t>Commercial Borrowing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f3"/>
                </a:solidFill>
                <a:latin typeface="Arial"/>
              </a:rPr>
              <a:t>Short-term Credi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8:30:40Z</dcterms:created>
  <dc:creator>p nair</dc:creator>
  <dc:description/>
  <dc:language>en-US</dc:language>
  <cp:lastModifiedBy>director R B I</cp:lastModifiedBy>
  <dcterms:modified xsi:type="dcterms:W3CDTF">2003-12-12T10:10:41Z</dcterms:modified>
  <cp:revision>17</cp:revision>
  <dc:subject/>
  <dc:title>Definition of Balance of Payments</dc:title>
</cp:coreProperties>
</file>