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6532-CB35-43F5-AAF2-3E2B0A3E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9FB-CF1C-4C90-8066-4487F961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BC50-655A-4DE6-9EBC-10AE0175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F438-6389-4A38-BFB0-1F8D5800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CE82-90F9-4201-A0BD-475F69B3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78F-2A84-411A-9E9C-D22995BB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F41-2F6F-4076-A10E-8FB2C6BD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397C-E76D-4747-99B7-73D29C22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1342-96F8-4CB3-B165-694E95A4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33F-EE9A-42EB-81DB-A56B8344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1646-0546-4596-9CC0-ABCAA00E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D8C-216C-4E31-A0C3-6824E424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216D-F417-4578-9D01-C1E20BF93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210520" y="0"/>
          <a:ext cx="933480" cy="92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10520" y="0"/>
                    <a:ext cx="9334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Consistency checks introduced in Version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cy w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(Import) A1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 below equivalent Rs 5,00,000 total should tally with S01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 above or equal to Rs 5,00,000 total should tally with S01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(Other than Import) A2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 below equivalent Rs 5,00,000 total should tally with S15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 above or equal to Rs 5,00,000 total should tally with S15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00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GB" sz="32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Consistency checks introduced in Version 6</a:t>
            </a:r>
            <a:r>
              <a:rPr b="0" lang="en-US" sz="32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 (Contd..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2057400"/>
            <a:ext cx="7772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(All N/P/D bills 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l sent for collection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sed during fortnigh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        received during fortnight) should tally with P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than Expor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he branches not selected for URS, below equivalent Rs 5,00,000 total should be given with P1590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15238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he branches selected for URS, below equivalent Rs 5,00,000 total should be given with P1590 and on selected dates (Provided by RBI) individual transactions also has to be reported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bove or equal to Rs  5,00,000 total should tally with P1591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ing Balance = Opening Balance - Total Sales + Total Purcha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28600"/>
            <a:ext cx="67816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Consistency checks introduced in Version 6</a:t>
            </a:r>
            <a:r>
              <a:rPr b="0" lang="en-US" sz="32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 (Contd..)</a:t>
            </a:r>
            <a:r>
              <a:rPr b="0" lang="en-GB" sz="28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New System of Repor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ADs have to submit FET-ERS along with R-Return cover-page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on FET-ERS V6.0 file structure only will be acceptable from April 2004 onw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RBI, system is proposed to be installed to check the data consistency. Inconsistent data will be taken as default in submission  of R-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New System of Reporting</a:t>
            </a:r>
            <a:br>
              <a:rPr sz="4000"/>
            </a:b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Contd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ssion of R-Return Cover-page details in paper media may be discontinued in fu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r Back-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Concluding Obser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a’s image depends on the success of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formation generated by the system can be effectively used by banks for their policy form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 of the system depends solely on ADs efficiency &amp; Co-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d00"/>
                </a:solidFill>
                <a:latin typeface="Times New Roman"/>
              </a:rPr>
              <a:t>FET-ERS V6.0: Usage &amp; Needs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. A. K. Sriman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lance of Payments Statistics Divis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ACS, Reserve Bank of India, 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9196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ctr">
              <a:lnSpc>
                <a:spcPts val="499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FET-ERS Data: Usage at RB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ila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7360" indent="-452520">
              <a:lnSpc>
                <a:spcPts val="4997"/>
              </a:lnSpc>
              <a:spcBef>
                <a:spcPts val="700"/>
              </a:spcBef>
              <a:buClr>
                <a:srgbClr val="9999ff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Balance of Payments (BoP)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7360" indent="-452520">
              <a:lnSpc>
                <a:spcPts val="4997"/>
              </a:lnSpc>
              <a:spcBef>
                <a:spcPts val="700"/>
              </a:spcBef>
              <a:buClr>
                <a:srgbClr val="9999ff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International Investment Position (InI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cation of Exporters not entering Banking Cha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cy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ts val="499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FET-ERS V6.0: Needs of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ts val="4997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lobalis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beralis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ised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ts val="49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210520" y="0"/>
          <a:ext cx="93348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10520" y="0"/>
                    <a:ext cx="9334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ts val="499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d00"/>
                </a:solidFill>
                <a:latin typeface="Times New Roman"/>
              </a:rPr>
              <a:t>Globalisation &amp;</a:t>
            </a: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 its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ts val="499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re disaggreg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imel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Quality &amp;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ndardise presentation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tion as per International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210520" y="0"/>
          <a:ext cx="93348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10520" y="0"/>
                    <a:ext cx="9334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d00"/>
                </a:solidFill>
                <a:latin typeface="Times New Roman"/>
              </a:rPr>
              <a:t>Liberalisation</a:t>
            </a: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 &amp; its effec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RA replaced by F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More emphasis on Macro management at RBI &amp; GoI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ntinuation of Submission of Documents along with R-re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Micro regulation at AD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of More inform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NSC recommendation regarding information on suppliers credit upto 180 day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Computerised Environment &amp; its ef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ic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Only R-Return Cover-page information in paper media &amp; FET-ERS floppy are required to be submit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lity: Why still in FoxPr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NOVEL (DOS based) still in exist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MS &amp; con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d00"/>
                </a:solidFill>
                <a:latin typeface="Times New Roman"/>
              </a:rPr>
              <a:t>FET-ERS: Important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rpose Code ch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(As per recommendation of the Technical Group on “Statistics of International Trade in Service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wo new fields in respect of Impor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(As per recommendation of NSC, shipping date and L/C indicator added to estimate short-term deb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E Modu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(Additional purpose codes for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R-Return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 cover-page, distributed separat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FET-ERS: Important Changes</a:t>
            </a:r>
            <a:br>
              <a:rPr sz="4000"/>
            </a:b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Contd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ST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Additional information on country of account hol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ency Che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ts val="34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Floppy for submission to RBI will be created from FET-ERS V6.0 only if disaggregated data are consistent with R-Return cover-page totals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6T17:20:28Z</dcterms:created>
  <dc:creator>director R B I</dc:creator>
  <dc:description/>
  <dc:language>en-US</dc:language>
  <cp:lastModifiedBy>director R B I</cp:lastModifiedBy>
  <dcterms:modified xsi:type="dcterms:W3CDTF">2004-01-02T05:20:59Z</dcterms:modified>
  <cp:revision>10</cp:revision>
  <dc:subject/>
  <dc:title>PowerPoint Presentation</dc:title>
</cp:coreProperties>
</file>