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CDEB-83F6-41AB-8917-ED7F053F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A63C-3793-4DFB-9509-9D5666CA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BE3-BE68-499F-9C36-C8680046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38C5-21DD-481A-8E2C-9B246C24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1454-1C5D-4A13-9F2D-A9E37AAA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3662-2117-4D35-B5DB-8D1BCCF9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BAEB-56E2-47F4-81B0-3F4CB18B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DC67-11A4-4AA3-A012-86A3D1DA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35E1-F936-451D-BD33-F9551FC6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C0F2-56C6-4E7C-9E2A-4EE9791E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2958-3C10-4E7F-A92A-1B24A9B9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B45-D229-4371-87C4-A809507D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627C-B3F3-4C70-8289-3D899BEE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A8C6-8360-48C0-AB8C-ED69F542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43AB-D8D6-43D1-8DBC-44BD418D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FE38-6F68-4214-B56A-C09513BC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DFEE-2DDE-448F-B021-0CE45353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3B2-B424-494E-8ED7-58D30433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76DE-6AEF-4070-A683-2C9B2B1D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1B4F-E09C-4B11-A210-1CE06814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C5F2-A6D1-40A0-8775-CD19F772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84EE-4497-4CA7-AE2D-FE6B6BB9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165D-7363-42C4-9F42-B54DCFD3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D4BD-FB09-4FA3-9A8E-AD1C48AC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7C56-5CAA-422D-A32F-4642465C5D0F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AFC5-6D86-45CB-9B2A-DD0C40BCC28A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ALANCE OF PAYMENTS :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NCEPTUAL AND COMPILATION ISSU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by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B.K. Bhoi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Director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Division of International Finance, DEAP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Reserve Bank of Indi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Banking Capital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ebt Creating Flows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f3"/>
                </a:solidFill>
                <a:latin typeface="Arial"/>
              </a:rPr>
              <a:t>Assets / Liabiliti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f3"/>
                </a:solidFill>
                <a:latin typeface="Arial"/>
              </a:rPr>
              <a:t>Non-resident Deposi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Areas of Concer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f3"/>
                </a:solidFill>
                <a:latin typeface="Arial"/>
              </a:rPr>
              <a:t>Reconciliation of merchandise trade data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f3"/>
                </a:solidFill>
                <a:latin typeface="Arial"/>
              </a:rPr>
              <a:t>More detailed data on trade in service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f3"/>
                </a:solidFill>
                <a:latin typeface="Arial"/>
              </a:rPr>
              <a:t>Refined data on FDI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f3"/>
                </a:solidFill>
                <a:latin typeface="Arial"/>
              </a:rPr>
              <a:t>Portfolio investment by NRI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ff66ff"/>
                </a:solidFill>
                <a:latin typeface="Monotype Corsiva"/>
              </a:rPr>
              <a:t>Thanks</a:t>
            </a:r>
            <a:endParaRPr b="0" lang="en-US" sz="7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Definition of Balance of Pay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f3"/>
                </a:solidFill>
                <a:latin typeface="Arial"/>
              </a:rPr>
              <a:t>It is a Systematic record of all economic transaction between the residents of a country and the rest of the world during a specific period, i.e. usually a financial year.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f3"/>
                </a:solidFill>
                <a:latin typeface="Arial"/>
              </a:rPr>
              <a:t>It is based on double entry system of recording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Broad Format of BoP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Credit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Debit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Ne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812880" indent="-812880">
              <a:lnSpc>
                <a:spcPct val="60000"/>
              </a:lnSpc>
              <a:spcBef>
                <a:spcPts val="700"/>
              </a:spcBef>
              <a:buClr>
                <a:srgbClr val="4d4df3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Current Accou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I. Merchandise Trad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II. Invisibl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4d4df3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Capital Accou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Foreign Investme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Loa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Banking Capit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Rupee Debt Service Servi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Other Capit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4d4df3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Errors &amp; Ommissio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4d4df3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Overall Balance (A + B + C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4d4df3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Monetary Movemen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erchandise Trad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Items 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Institutions involved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b852"/>
                </a:solidFill>
                <a:latin typeface="Arial"/>
              </a:rPr>
              <a:t>Exports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4d4df3"/>
                </a:solidFill>
                <a:latin typeface="Arial"/>
              </a:rPr>
              <a:t>f.o.b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Customs, DGCI&amp;S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(GR/PP form)/DTR,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ADs (NEC form),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ECD {GR (original)},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DESACS / DEAP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b852"/>
                </a:solidFill>
                <a:latin typeface="Arial"/>
              </a:rPr>
              <a:t>Imports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4d4df3"/>
                </a:solidFill>
                <a:latin typeface="Arial"/>
              </a:rPr>
              <a:t>c.i.f.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Customs (BE),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ADs/ECD (R-Return)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DESACS/DEAP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Difference Between BoP &amp; DGCI&amp;S Data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PP Exports not covered in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DGCI&amp;S Data;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No BoP Record with Nepal &amp; Bhutan;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Ships &amp; Aircrafts, Oil Defence Stocks;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Import under external Assista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Valuation: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Converted at rates notified by the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    Ministry of Commerce;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Average Exchange Rate for the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    respective month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Timing: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On the basis of shipments;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On the basis of Payments;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Lead/Lag in Payments/Shipments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(3-4 month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Differential Reporting : Motiv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f3"/>
                </a:solidFill>
                <a:latin typeface="Arial"/>
              </a:rPr>
              <a:t>Money launder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f3"/>
                </a:solidFill>
                <a:latin typeface="Arial"/>
              </a:rPr>
              <a:t>Payment negotiated outside banking channel / retained abroad for under-invoicing of impor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f3"/>
                </a:solidFill>
                <a:latin typeface="Arial"/>
              </a:rPr>
              <a:t>Export credit arbitrag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f3"/>
                </a:solidFill>
                <a:latin typeface="Arial"/>
              </a:rPr>
              <a:t>Export incentiv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f3"/>
                </a:solidFill>
                <a:latin typeface="Arial"/>
              </a:rPr>
              <a:t>Avoidance of import duty in destination countr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visib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53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Items 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   Credit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 Debit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Ne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53400" indent="-653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Servic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Tra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Transport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Insura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G.N.I.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Miscellaneou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53400" indent="-653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Transfer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Official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Privat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53400" indent="-653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Inco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7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Investment Incom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7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Compensation of Employe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Foreign Investment</a:t>
            </a:r>
            <a:br>
              <a:rPr sz="40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on-debt creating flows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Direct Investmen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Equity Capital (SIA/FIPB, RBI automatic approvals, NRI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Reinvested earning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Inter-corporate debt transactio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Portfolio Investmen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Equity / Debt by FII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ADRs / GDR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Offshore fund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Loans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Debt Creating Flows)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f3"/>
                </a:solidFill>
                <a:latin typeface="Arial"/>
              </a:rPr>
              <a:t>External Assistan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f3"/>
                </a:solidFill>
                <a:latin typeface="Arial"/>
              </a:rPr>
              <a:t>Commercial Borrowing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f3"/>
                </a:solidFill>
                <a:latin typeface="Arial"/>
              </a:rPr>
              <a:t>Short-term Credi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8:30:40Z</dcterms:created>
  <dc:creator>p nair</dc:creator>
  <dc:description/>
  <dc:language>en-US</dc:language>
  <cp:lastModifiedBy>director R B I</cp:lastModifiedBy>
  <dcterms:modified xsi:type="dcterms:W3CDTF">2003-12-12T10:10:41Z</dcterms:modified>
  <cp:revision>17</cp:revision>
  <dc:subject/>
  <dc:title>Definition of Balance of Payments</dc:title>
</cp:coreProperties>
</file>