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BFD-5F06-435B-B129-0FE29F9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8C4-C241-4354-9B1D-BFBC134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EB9-3177-41A1-8E96-19D97ABA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CD4-228E-40E6-BCD9-9AB7E27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CF5E-82D9-4396-ABDD-E53CCE7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3EB8-6BC2-4CF6-8A43-81B7191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B76A-9B0E-4710-ACC9-CBB5901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8F9-486E-4CF2-8C6C-29A521BB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01B-AD5F-4151-875B-2EB5D837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3B38-35AB-4A32-940E-EB5F783E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02EB-B2C1-4098-B806-A906DB3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71B-68B7-4463-A511-E0271CB2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3437-1361-4339-9396-3A34919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6941-C67F-4084-BBAC-88EB478A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49A-665C-4ADE-A603-89E2B61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442-8F65-4B90-844C-3773D775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C986-39F7-4127-A4BC-D120A705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B35-6BED-4F60-B45A-509A28D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3B2-4C54-4DD0-8699-4499837F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EEB-845A-4F02-AB71-103238EE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98E-2BF9-4A9C-9B1E-6DA390D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5ED-046E-4B36-927B-4CE71A7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BE4-8FB3-4DE9-96E7-F661371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0ED-8C34-477E-B8A1-42A6F34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373D-1A0E-4426-A5A7-A346A471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F63-548B-4D19-927B-A32FF11F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DISAGGREGATED DATA ON BALANCE OF PAYMENTS (BoP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r. B. K. Bhoi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irector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</a:rPr>
              <a:t>Division of International Finance, DEAP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Reserve Bank of In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Value of export bills N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alisation of export bills sent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ance receipts against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urplus freight/passenger fare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n shipping/airlines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expenses of foreig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irlines/shipping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onal leasing with 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s towards travel (includes foreign TCs, currency notes over the counter by hotels, emporiu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s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uri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ele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tellit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5 Construc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6 Insuranc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ife insu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reight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7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inancial Intermediation (bank charges,   collection charges, LC charg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vestment Banking – brokerage, underwriting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8 Computer and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oftware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atabase and data processing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ir &amp; maintenance of computer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ews agencie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9 Royalties &amp; License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erchan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mission on exports and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eg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ccounting, Auditing, Book keeping and Tax consultanc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Business &amp; Management consultancy and Public Rel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ertising, Trade fare and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&amp;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rchitectural, Engineering and other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gricultural, Mining &amp; Onsite process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office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1 Personal, Cultural and Recreation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udio-Visual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&amp; cultural services (related to Museums, Libraries, Sporting activities etc. &amp; Fees for corresponding cour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2 Government not included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Foreign Embassies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Indian Embassies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mittances towards family maintenance &amp;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gifts &amp; 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onations to religious &amp; charitabl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Grants &amp; donations to Governments &amp; charitable institutions established by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 &amp; refund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pensation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l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debt securities – debentures, bonds,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received/paid by ADs on their own investment/lo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funds, r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bi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s below US $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ayments below Rs 5,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’s subscription to IMF’s Special Data Dissemination Standards (S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-Agency Task Force’s Manual on Statistics of International Trade i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clusion of Services and Negotiations under WTO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Lucida Handwriting"/>
                <a:ea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Constitution of Technical Group on Statistics of International Trade in Services</a:t>
            </a: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</a:t>
            </a:r>
            <a:r>
              <a:rPr b="1" lang="en-US" sz="2800" spc="-1" strike="noStrike">
                <a:solidFill>
                  <a:srgbClr val="ff00ff"/>
                </a:solidFill>
                <a:latin typeface="Benguiat Bk BT"/>
                <a:ea typeface="Times New Roman"/>
              </a:rPr>
              <a:t>Major Terms of Reference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Implications of the Manual on Statistic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Trade 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Identification of appropriate purpos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Modification to A-2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Consequent revisions to Foreign Exchan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ransactions-Electronic Reporting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(FET - ERS) software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de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1 – Cross bord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2 – Consumption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3 – Commercial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4 -  Presence of Natur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 - 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 -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our digit 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No of purpose cod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le  – increased from 64 to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 – increased from 58 to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Cut-off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Unclassified Receip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5 Construc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6 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7 Financi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8 Computer &amp;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9 Royalties &amp; licen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1 Personal, cultural and recre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2 Government services not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elsewhere (G. n.i.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rtfolio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oans from non-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on-residen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triation of Overse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 R B I</cp:lastModifiedBy>
  <dcterms:modified xsi:type="dcterms:W3CDTF">2003-12-12T10:16:16Z</dcterms:modified>
  <cp:revision>16</cp:revision>
  <dc:subject/>
  <dc:title>PowerPoint Presentation</dc:title>
</cp:coreProperties>
</file>