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54B-B271-4289-83A7-E8DFEF5A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5CC-2A5A-4043-9802-AC47585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82A-300C-4BCC-BDDE-A2D64A4E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456-CF38-426C-8AAD-A898665D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0D3-C74B-4914-B15F-04E8C489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90A-6F95-49F6-817F-2DDA7E7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F68-4D78-4601-81D2-A50F6B9C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BC6-E24A-478C-A631-9D1997BC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E3F-C378-4B33-A4C8-AB2A5018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078-E4EF-4A5D-9006-6339126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9B6-56B9-47EC-B930-D5043B7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DBC-886F-4188-831F-F5251A0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DCCB-B69E-4DB9-9789-1801FDC78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cy 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(Import) A1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0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0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(Other than Import) A2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15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15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0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(All N/P/D bill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sent for collectio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sed during fortn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        received during fortnight) should tally with P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han Ex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not selected for URS, below equivalent Rs 5,00,000 total should be given with P1590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selected for URS, below equivalent Rs 5,00,000 total should be given with P1590 and on selected dates (Provided by RBI) individual transactions also has to be reporte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bove or equal to Rs  5,00,000 total should tally with P1591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ing Balance = Opening Balance - Total Sales + Total Purcha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6781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ADs have to submit FET-ERS along with R-Return cover-page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on FET-ERS V6.0 file structure only will be acceptable from April 2004 on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BI, system is proposed to be installed to check the data consistency. Inconsistent data will be taken as default in submission  of R-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ssion of R-Return Cover-page details in paper media may be discontinued in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Back-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cluding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’s image depends on the success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formation generated by the system can be effectively used by banks for their policy for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f the system depends solely on ADs efficiency &amp; Co-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d00"/>
                </a:solidFill>
                <a:latin typeface="Times New Roman"/>
              </a:rPr>
              <a:t>FET-ERS V6.0: Usage &amp; Need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A. K. Srim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of Payments Statistics Divi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ACS, Reserve Bank of India, 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9196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Data: Usage at RB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Balance of Payments (BoP)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nternational Investment Position (In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Exporters not entering Banking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V6.0: Needs of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ber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ise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Globalisation &amp;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its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disaggreg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mel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ality &amp;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ise presentation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as per 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Liberalisation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&amp; its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A replaced by F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ore emphasis on Macro management at RBI &amp; GoI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ntinuation of Submission of Documents along with R-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icro regulation at AD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of More inform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SC recommendation regarding information on suppliers credit upto 180 da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mputerised Environment &amp; its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Only R-Return Cover-page information in paper media &amp; FET-ERS floppy are required to be submit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ty: Why still in FoxP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OVEL (DOS based) still in 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MS &amp; con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pose Code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the Technical Group on “Statistics of International Trade in Servic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new fields in respect of Impor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NSC, shipping date and L/C indicator added to estimate short-term deb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E Mod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dditional purpose codes fo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R-Retur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 cover-page, distributed separat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Additional information on country of account hol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34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Floppy for submission to RBI will be created from FET-ERS V6.0 only if disaggregated data are consistent with R-Return cover-page total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7:20:28Z</dcterms:created>
  <dc:creator>director R B I</dc:creator>
  <dc:description/>
  <dc:language>en-US</dc:language>
  <cp:lastModifiedBy>director R B I</cp:lastModifiedBy>
  <dcterms:modified xsi:type="dcterms:W3CDTF">2004-01-02T05:20:59Z</dcterms:modified>
  <cp:revision>10</cp:revision>
  <dc:subject/>
  <dc:title>PowerPoint Presentation</dc:title>
</cp:coreProperties>
</file>