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A265-A88C-4033-A15C-A14B08BB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B4EB-1A46-400E-A029-89EB2941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B2C-C8B5-4D21-8B3A-0B1352F1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AD7-53CA-4BA4-8D21-45DB5275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CA8E-39DB-4125-980D-93B1B723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4654-97C4-421C-A749-44A55B62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35B9-6CD2-4BF8-BD6A-EA6A9BCC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D1C1-6C86-4A1C-BD83-A0DA83DD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5576-F61F-4C82-AD78-C7DB4A4E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3F86-E90B-4D09-AF69-7DEA302F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8A71-DE76-4C80-BBE8-BD1CE56C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6A6D-94FF-486F-8AE3-927FFC0D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E7C6-BB5A-46BD-A8DF-0421E599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7602-55F6-43D1-A859-A4074419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60FE-9A7B-458B-96F4-2547E71B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7107-DD55-4BD1-A449-A7E50783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56C9-0B6B-41C7-AA85-5354E299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822-32E9-4563-95F7-663808B9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6BEC-4AA9-4BA7-86C5-DAE09F93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8CD-1C85-467B-92AF-B96D24FB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4CDD-DE0E-4CE6-B86C-530F18E0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1AA5-13DB-4B64-B329-4B73D89C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7C89-2395-49E0-82FD-7483A0F2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D7E-FAD2-4CCE-9EA1-F1389F8E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CC0A-B2FC-4248-8322-79C7FC06E336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322C-347C-4DFE-8D9B-4CCBEEE7DFB9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ALANCE OF PAYMENTS :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NCEPTUAL AND COMPILATION ISSU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by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B.K. Bhoi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Director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Division of International Finance, DEAP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Reserve Bank of Indi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Banking Capital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ebt Creating Flows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f3"/>
                </a:solidFill>
                <a:latin typeface="Arial"/>
              </a:rPr>
              <a:t>Assets / Liabiliti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f3"/>
                </a:solidFill>
                <a:latin typeface="Arial"/>
              </a:rPr>
              <a:t>Non-resident Deposi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Areas of Concer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Reconciliation of merchandise trade data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More detailed data on trade in service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Refined data on FDI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Portfolio investment by NRIs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ff66ff"/>
                </a:solidFill>
                <a:latin typeface="Monotype Corsiva"/>
              </a:rPr>
              <a:t>Thanks</a:t>
            </a:r>
            <a:endParaRPr b="0" lang="en-US" sz="7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Definition of Balance of Pay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It is a Systematic record of all economic transaction between the residents of a country and the rest of the world during a specific period, i.e. usually a financial year.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f3"/>
                </a:solidFill>
                <a:latin typeface="Arial"/>
              </a:rPr>
              <a:t>It is based on double entry system of recording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Broad Format of BoP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Credit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Debit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Ne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812880" indent="-812880">
              <a:lnSpc>
                <a:spcPct val="60000"/>
              </a:lnSpc>
              <a:spcBef>
                <a:spcPts val="700"/>
              </a:spcBef>
              <a:buClr>
                <a:srgbClr val="4d4df3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Current Accou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I. Merchandise Trad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II. Invisibl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4d4df3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Capital Accou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Foreign Investme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Loa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Banking Capit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Rupee Debt Service Servi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f3"/>
                </a:solidFill>
                <a:latin typeface="Arial"/>
              </a:rPr>
              <a:t>Other Capit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4d4df3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Errors &amp; Ommiss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4d4df3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Overall Balance (A + B + C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4d4df3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Monetary Movemen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erchandise Trad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Items 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Institutions involved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b852"/>
                </a:solidFill>
                <a:latin typeface="Arial"/>
              </a:rPr>
              <a:t>Exports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4d4df3"/>
                </a:solidFill>
                <a:latin typeface="Arial"/>
              </a:rPr>
              <a:t>f.o.b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Customs, DGCI&amp;S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(GR/PP form)/DTR,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ADs (NEC form),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ECD {GR (original)},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DESACS / DEAP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b852"/>
                </a:solidFill>
                <a:latin typeface="Arial"/>
              </a:rPr>
              <a:t>Imports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4d4df3"/>
                </a:solidFill>
                <a:latin typeface="Arial"/>
              </a:rPr>
              <a:t>c.i.f.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Customs (BE),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ADs/ECD (R-Return)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DESACS/DEAP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Difference Between BoP &amp; DGCI&amp;S Data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PP Exports not covered in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DGCI&amp;S Data;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No BoP Record with Nepal &amp; Bhutan;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Ships &amp; Aircrafts, Oil Defence Stocks;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Import under external Assista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Valuation: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Converted at rates notified by the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    Ministry of Commerce;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Average Exchange Rate for the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            respective month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Timing: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On the basis of shipments;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On the basis of Payments;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d4df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Lead/Lag in Payments/Shipments 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  (3-4 month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Differential Reporting : Motiv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f3"/>
                </a:solidFill>
                <a:latin typeface="Arial"/>
              </a:rPr>
              <a:t>Money launder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f3"/>
                </a:solidFill>
                <a:latin typeface="Arial"/>
              </a:rPr>
              <a:t>Payment negotiated outside banking channel / retained abroad for under-invoicing of impor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f3"/>
                </a:solidFill>
                <a:latin typeface="Arial"/>
              </a:rPr>
              <a:t>Export credit arbitrag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f3"/>
                </a:solidFill>
                <a:latin typeface="Arial"/>
              </a:rPr>
              <a:t>Export incentiv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f3"/>
                </a:solidFill>
                <a:latin typeface="Arial"/>
              </a:rPr>
              <a:t>Avoidance of import duty in destination countr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visib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5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Items 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   Credit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 Debit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Ne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53400" indent="-653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Servic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Tra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Transport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Insura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G.N.I.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Miscellaneou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53400" indent="-653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Transfer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Official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6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Privat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53400" indent="-653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Inco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7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Investment Incom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95360" indent="-490320">
              <a:lnSpc>
                <a:spcPct val="7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Compensation of Employe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Foreign Investment</a:t>
            </a:r>
            <a:br>
              <a:rPr sz="40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on-debt creating flows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Direct Investmen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Equity Capital (SIA/FIPB, RBI automatic approvals, NRI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Reinvested earning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Inter-corporate debt transact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Portfolio Investmen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Equity / Debt by FII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ADRs / GDR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f3"/>
                </a:solidFill>
                <a:latin typeface="Arial"/>
              </a:rPr>
              <a:t>Offshore fund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Loans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Debt Creating Flows)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f3"/>
                </a:solidFill>
                <a:latin typeface="Arial"/>
              </a:rPr>
              <a:t>External Assistan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f3"/>
                </a:solidFill>
                <a:latin typeface="Arial"/>
              </a:rPr>
              <a:t>Commercial Borrowing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f3"/>
                </a:solidFill>
                <a:latin typeface="Arial"/>
              </a:rPr>
              <a:t>Short-term Credi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8:30:40Z</dcterms:created>
  <dc:creator>p nair</dc:creator>
  <dc:description/>
  <dc:language>en-US</dc:language>
  <cp:lastModifiedBy>director R B I</cp:lastModifiedBy>
  <dcterms:modified xsi:type="dcterms:W3CDTF">2003-12-12T10:10:41Z</dcterms:modified>
  <cp:revision>17</cp:revision>
  <dc:subject/>
  <dc:title>Definition of Balance of Payments</dc:title>
</cp:coreProperties>
</file>