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BED-116C-4E89-B3ED-844C2643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1EA-4A08-4884-B33A-BF59EDF1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A62-0E6B-4DCA-B767-01046667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E52-0F2E-41DE-843A-5A10155A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40B-508F-447F-B919-F1088907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0E4-A3DB-4AF8-86BA-0FC0994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1DF-98F6-4882-9EF8-3D17963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53D-8CD1-4F67-8847-1362E7F1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82A1-539A-48A2-8B0A-F3DF8497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9D64-D3FA-410C-A07D-BBF7D7F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0B3E-CEF2-4579-AF32-4141CE5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CE8-6DD9-4509-84F6-81F33D2C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9B3-0040-480D-AB24-7A8E122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92DD-1A93-4F90-98E1-3DF43B19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A739-00DA-4AAC-B2C6-7C88871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77FD-70FF-43DC-85A5-EF34C6BC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D3E3-662B-4E1E-A589-2AA4947E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003-F048-49BE-A02D-81C00EF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B06-6047-49BA-AC10-6810B97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902-A942-4B29-98DA-A37A0AC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793-7F05-4B51-A561-042D7CC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1E2-29A4-4697-A176-DF075FE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085-F55C-4139-8C7D-BFE05E3D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211-6C6F-44F3-A0DD-11B5EC2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CC0-6980-499E-9EB3-BF195AEC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EB9-C5CC-43D7-9515-353F3A5AC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DISAGGREGATED DATA ON BALANCE OF PAYMENTS (BoP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r. B. K. Bhoi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Director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</a:rPr>
              <a:t>Division of International Finance, DEAP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Benguiat Bk BT"/>
                <a:ea typeface="Times New Roman"/>
              </a:rPr>
              <a:t>Reserve Bank of In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Value of export bills N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alisation of export bills sent 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ance receipts against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urplus freight/passenger fare b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n shipping/airlines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expenses of foreig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irlines/shipping compan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ng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Operational leasing with 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s towards travel (includes foreign TCs, currency notes over the counter by hotels, emporium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s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uri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ele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tellit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5 Construc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6 Insuranc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ife insu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reight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7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inancial Intermediation (bank charges,   collection charges, LC charg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vestment Banking – brokerage, underwriting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8 Computer and Inform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oftware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atabase and data processing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ir &amp; maintenance of computer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ews agencie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9 Royalties &amp; License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erchan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mission on exports and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eg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ccounting, Auditing, Book keeping and Tax consultanc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Business &amp; Management consultancy and Public Rel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dvertising, Trade fare and marke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&amp;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rchitectural, Engineering and other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gricultural, Mining &amp; Onsite process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office</a:t>
            </a:r>
            <a:r>
              <a:rPr b="0" lang="en-US" sz="24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1 Personal, Cultural and Recreation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Audio-Visual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&amp; cultural services (related to Museums, Libraries, Sporting activities etc. &amp; Fees for corresponding cour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2 Government not included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Foreign Embassies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Maintenance of Indian Embassies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mittances towards family maintenance &amp;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ersonal gifts &amp; 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onations to religious &amp; charitabl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Grants &amp; donations to Governments &amp; charitable institutions established by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 &amp; refund of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mpensation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l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on debt securities – debentures, bonds,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est received/paid by ADs on their own investment/loan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funds, r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bi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ceipts below US $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ayments below Rs 5,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dia’s subscription to IMF’s Special Data Dissemination Standards (S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-Agency Task Force’s Manual on Statistics of International Trade i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clusion of Services and Negotiations under WTO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802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Lucida Handwriting"/>
                <a:ea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Pa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Fr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vantGarde Md BT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Benguiat Bk BT"/>
                <a:ea typeface="Times New Roman"/>
              </a:rPr>
              <a:t>Constitution of Technical Group on Statistics of International Trade in Services</a:t>
            </a: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</a:t>
            </a:r>
            <a:r>
              <a:rPr b="1" lang="en-US" sz="2800" spc="-1" strike="noStrike">
                <a:solidFill>
                  <a:srgbClr val="ff00ff"/>
                </a:solidFill>
                <a:latin typeface="Benguiat Bk BT"/>
                <a:ea typeface="Times New Roman"/>
              </a:rPr>
              <a:t>Major Terms of Reference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Implications of the Manual on Statistic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International Trade 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Identification of appropriate purpos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Modification to A-2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*  Consequent revisions to Foreign Exchan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Transactions-Electronic Reporting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(FET - ERS) software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odes of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1 – Cross bord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2 – Consumption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3 – Commercial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Mode 4 -  Presence of Natural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 - 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 -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our digit cod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No of purpose cod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Sale  – increased from 64 to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urchase – increased from 58 to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Cut-off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vantGarde Md BT"/>
              </a:rPr>
              <a:t>Unclassified Receip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1 Exports / imports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2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3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4 Communica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5 Construc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6 Insuran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</a:rPr>
              <a:t>07 Financi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Main Group Numbers /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8 Computer &amp;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09 Royalties &amp; licen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0 Other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1 Personal, cultural and recre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2 Government services not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elsewhere (G. n.i.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3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4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vantGarde Md BT"/>
              </a:rPr>
              <a:t>15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vantGarde Md BT"/>
                <a:ea typeface="Times New Roman"/>
              </a:rPr>
              <a:t>00 Capital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F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Portfolio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Loans from non-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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Non-residen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vantGarde Md BT"/>
                <a:ea typeface="Times New Roman"/>
              </a:rPr>
              <a:t>Repatriation of Oversea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 R B I</cp:lastModifiedBy>
  <dcterms:modified xsi:type="dcterms:W3CDTF">2003-12-12T10:16:16Z</dcterms:modified>
  <cp:revision>16</cp:revision>
  <dc:subject/>
  <dc:title>PowerPoint Presentation</dc:title>
</cp:coreProperties>
</file>