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B66-1ECD-4912-9C12-0BB3C69A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EF9-BB0C-4B63-A36B-5548BBC9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3C7-33AE-4786-B1CF-808D3060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204-F6EE-492F-A2F5-797ECEB1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A8E-8B06-4C4F-9304-3F96C53C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D23-F22E-4848-9507-92E46BBF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550-1B80-4040-855D-460D7C0A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075-463C-42ED-8156-B64DBA23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825-DB6B-4524-A80D-A5873330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FBB-D2AC-47DC-92DB-FAE6524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D8C-6AD5-4C45-9CCA-502333B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F15-24DD-495D-A494-0382A9D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F118-17F9-405B-AC26-A24216BFE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cy 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(Import) A1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01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0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(Other than Import) A2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below equivalent Rs 5,00,000 total should tally with S15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 above or equal to Rs 5,00,000 total should tally with S15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0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(All N/P/D bill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sent for collectio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sed during fortn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        received during fortnight) should tally with P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han Ex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not selected for URS, below equivalent Rs 5,00,000 total should be given with P1590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branches selected for URS, below equivalent Rs 5,00,000 total should be given with P1590 and on selected dates (Provided by RBI) individual transactions also has to be reporte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bove or equal to Rs  5,00,000 total should tally with P1591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ing Balance = Opening Balance - Total Sales + Total Purcha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6781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Consistency checks introduced in Version 6</a:t>
            </a:r>
            <a:r>
              <a:rPr b="0" lang="en-US" sz="32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 (Contd..)</a:t>
            </a:r>
            <a:r>
              <a:rPr b="0" lang="en-GB" sz="2800" spc="-1" strike="noStrike">
                <a:solidFill>
                  <a:srgbClr val="99cd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ADs have to submit FET-ERS along with R-Return cover-page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on FET-ERS V6.0 file structure only will be acceptable from April 2004 on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BI, system is proposed to be installed to check the data consistency. Inconsistent data will be taken as default in submission  of R-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New System of Reporting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ssion of R-Return Cover-page details in paper media may be discontinued in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Back-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cluding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’s image depends on the success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formation generated by the system can be effectively used by banks for their policy form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f the system depends solely on ADs efficiency &amp; Co-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d00"/>
                </a:solidFill>
                <a:latin typeface="Times New Roman"/>
              </a:rPr>
              <a:t>FET-ERS V6.0: Usage &amp; Need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A. K. Srim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of Payments Statistics Divi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ACS, Reserve Bank of India, 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9196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Data: Usage at RB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Balance of Payments (BoP)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7360" indent="-452520">
              <a:lnSpc>
                <a:spcPts val="4997"/>
              </a:lnSpc>
              <a:spcBef>
                <a:spcPts val="700"/>
              </a:spcBef>
              <a:buClr>
                <a:srgbClr val="9999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International Investment Position (In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Exporters not entering Banking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 V6.0: Needs of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lob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beralis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ise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49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Globalisation &amp;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its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disaggreg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mel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Quality &amp;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ise presentation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as per Internationa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10520" y="0"/>
          <a:ext cx="9334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d00"/>
                </a:solidFill>
                <a:latin typeface="Times New Roman"/>
              </a:rPr>
              <a:t>Liberalisation</a:t>
            </a: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 &amp; its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A replaced by F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ore emphasis on Macro management at RBI &amp; GoI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ntinuation of Submission of Documents along with R-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Micro regulation at AD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of More inform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SC recommendation regarding information on suppliers credit upto 180 da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mputerised Environment &amp; its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Only R-Return Cover-page information in paper media &amp; FET-ERS floppy are required to be submit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ity: Why still in FoxP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NOVEL (DOS based) still in 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MS &amp; con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pose Code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the Technical Group on “Statistics of International Trade in Servic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new fields in respect of Impor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s per recommendation of NSC, shipping date and L/C indicator added to estimate short-term deb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E Mod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(Additional purpose codes for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R-Retur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 cover-page, distributed separat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FET-ERS: Important Changes</a:t>
            </a:r>
            <a:br>
              <a:rPr sz="4000"/>
            </a:br>
            <a:r>
              <a:rPr b="0" lang="en-US" sz="4000" spc="-1" strike="noStrike">
                <a:solidFill>
                  <a:srgbClr val="99cd00"/>
                </a:solidFill>
                <a:latin typeface="Times New Roman"/>
              </a:rPr>
              <a:t>Contd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Additional information on country of account hol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34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Floppy for submission to RBI will be created from FET-ERS V6.0 only if disaggregated data are consistent with R-Return cover-page total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7:20:28Z</dcterms:created>
  <dc:creator>director R B I</dc:creator>
  <dc:description/>
  <dc:language>en-US</dc:language>
  <cp:lastModifiedBy>director R B I</cp:lastModifiedBy>
  <dcterms:modified xsi:type="dcterms:W3CDTF">2004-01-02T05:20:59Z</dcterms:modified>
  <cp:revision>10</cp:revision>
  <dc:subject/>
  <dc:title>PowerPoint Presentation</dc:title>
</cp:coreProperties>
</file>