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4396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439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439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6761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439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439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439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5341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439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439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4396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0"/>
            <a:ext cx="8610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Garamond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Garamond"/>
              </a:rPr>
              <a:t>Department of Statistical Analysis and Computer Services (DESACS), RB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ff"/>
                </a:solidFill>
                <a:latin typeface="Verdana"/>
              </a:rPr>
              <a:t>NRD-CSR Version 3.0                               NRD-CSR Team, RBI                                          April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09572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homelogo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232680" y="423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66ffff"/>
                </a:solidFill>
                <a:latin typeface="Lucida Sans Unicode"/>
                <a:ea typeface="Times New Roman"/>
              </a:rPr>
              <a:t>NON–RESIDENT DEPOSITS – </a:t>
            </a:r>
            <a:br>
              <a:rPr sz="2800"/>
            </a:br>
            <a:r>
              <a:rPr b="1" lang="en-GB" sz="2800" spc="-1" strike="noStrike">
                <a:solidFill>
                  <a:srgbClr val="66ffff"/>
                </a:solidFill>
                <a:latin typeface="Lucida Sans Unicode"/>
                <a:ea typeface="Times New Roman"/>
              </a:rPr>
              <a:t>COMPREHENSIVE SINGLE RETURN</a:t>
            </a:r>
            <a:br>
              <a:rPr sz="2800"/>
            </a:br>
            <a:r>
              <a:rPr b="1" lang="en-GB" sz="2800" spc="-1" strike="noStrike">
                <a:solidFill>
                  <a:srgbClr val="66ffff"/>
                </a:solidFill>
                <a:latin typeface="Lucida Sans Unicode"/>
                <a:ea typeface="Times New Roman"/>
              </a:rPr>
              <a:t>(NRD-CSR)</a:t>
            </a:r>
            <a:br>
              <a:rPr sz="2800"/>
            </a:b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42640" y="4647960"/>
            <a:ext cx="7010280" cy="114300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NRD-CSR Team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Bank of India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9718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ction Plans for HO / N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For Controlling Offices (using NRD-CSR System)</a:t>
            </a:r>
            <a:br>
              <a:rPr sz="2400"/>
            </a:br>
            <a:r>
              <a:rPr b="1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Action Plans: Few Points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49604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66"/>
                </a:solidFill>
                <a:latin typeface="Times New Roman"/>
              </a:rPr>
              <a:t>Two Action Plans (Short-term &amp; Medium-term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ff66"/>
                </a:solidFill>
                <a:uFillTx/>
                <a:latin typeface="Times New Roman"/>
              </a:rPr>
              <a:t>Short-term (to match Stock Data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To identify NO/Branches, wherein mis-match is there. Advise them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A transaction (of debit/credit) may be passed to make it as per GL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Erroneous data to be rejected at NO/HO.   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Short-term action to be taken within one month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To hold workshops for Nodal Offices and communicate action plans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For Controlling Offices (using NRD-CSR System)</a:t>
            </a:r>
            <a:br>
              <a:rPr sz="2400"/>
            </a:br>
            <a:r>
              <a:rPr b="1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Action Plans: Few Points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49604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66"/>
                </a:solidFill>
                <a:latin typeface="Times New Roman"/>
              </a:rPr>
              <a:t>Two Action Plans (Short-term &amp; Medium-term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ff66"/>
                </a:solidFill>
                <a:uFillTx/>
                <a:latin typeface="Times New Roman"/>
              </a:rPr>
              <a:t>Medium-term (to match other data components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To be taken up once stock data is streamlined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Maturity profile (Original and Residual) profile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Flows data and high value transactions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Country-wise distributions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Other components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038480" y="2057400"/>
            <a:ext cx="38102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lease contact on telephone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22 – 2657 36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rough e-mail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rdcsr@rbi.org.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990720"/>
            <a:ext cx="5257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Any query/problem…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e01562_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21542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11:03:11Z</dcterms:created>
  <dc:creator>Prithwis Jana</dc:creator>
  <dc:description/>
  <dc:language>en-US</dc:language>
  <cp:lastModifiedBy>user</cp:lastModifiedBy>
  <dcterms:modified xsi:type="dcterms:W3CDTF">2007-04-26T19:38:40Z</dcterms:modified>
  <cp:revision>139</cp:revision>
  <dc:subject/>
  <dc:title>PowerPoint Presentation</dc:title>
</cp:coreProperties>
</file>