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439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5341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0"/>
            <a:ext cx="8610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Garamond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Garamond"/>
              </a:rPr>
              <a:t>Department of Statistical Analysis and Computer Services (DESACS), RB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ff"/>
                </a:solidFill>
                <a:latin typeface="Verdana"/>
              </a:rPr>
              <a:t>NRD-CSR Version 3.0                               NRD-CSR Team, RBI                                          April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09572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homelogo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232680" y="423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66ffff"/>
                </a:solidFill>
                <a:latin typeface="Lucida Sans Unicode"/>
                <a:ea typeface="Times New Roman"/>
              </a:rPr>
              <a:t>NON–RESIDENT DEPOSITS – </a:t>
            </a:r>
            <a:br>
              <a:rPr sz="2800"/>
            </a:br>
            <a:r>
              <a:rPr b="1" lang="en-GB" sz="2800" spc="-1" strike="noStrike">
                <a:solidFill>
                  <a:srgbClr val="66ffff"/>
                </a:solidFill>
                <a:latin typeface="Lucida Sans Unicode"/>
                <a:ea typeface="Times New Roman"/>
              </a:rPr>
              <a:t>COMPREHENSIVE SINGLE RETURN</a:t>
            </a:r>
            <a:br>
              <a:rPr sz="2800"/>
            </a:br>
            <a:r>
              <a:rPr b="1" lang="en-GB" sz="2800" spc="-1" strike="noStrike">
                <a:solidFill>
                  <a:srgbClr val="66ffff"/>
                </a:solidFill>
                <a:latin typeface="Lucida Sans Unicode"/>
                <a:ea typeface="Times New Roman"/>
              </a:rPr>
              <a:t>(NRD-CSR)</a:t>
            </a:r>
            <a:br>
              <a:rPr sz="2800"/>
            </a:b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2640" y="4647960"/>
            <a:ext cx="7010280" cy="11430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RD-CSR Team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Bank of India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9718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stallation &amp; Menu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stallation Procedure – Contd.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5920" cy="50292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i) What is your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Bank cod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?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nche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it is Branch Part I Code (7 digit)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dal Office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also Part I cod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d office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it is Bank Working Code (3/4/5 digit unique code, may be different from first 3/4/5 digits of Part I code)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ii) Provide your site address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ith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 name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&amp;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 contact detail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sponsible officer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in the site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v) Select the Initial </a:t>
            </a:r>
            <a:r>
              <a:rPr b="1" i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Reference Period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(Format “YYYYMM”)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) Select the option (Yes/No), whether would like to generate the interest re-investment transactions by the system. 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(valid only for branches)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523880"/>
            <a:ext cx="2362320" cy="18288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nstallation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RD-C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6858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happens on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stallation of softw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124080" y="1447920"/>
            <a:ext cx="5257440" cy="2057040"/>
            <a:chOff x="3124080" y="1447920"/>
            <a:chExt cx="5257440" cy="2057040"/>
          </a:xfrm>
        </p:grpSpPr>
        <p:sp>
          <p:nvSpPr>
            <p:cNvPr id="68" name=""/>
            <p:cNvSpPr/>
            <p:nvPr/>
          </p:nvSpPr>
          <p:spPr>
            <a:xfrm>
              <a:off x="5056920" y="1447920"/>
              <a:ext cx="3279240" cy="47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Copy the system to a 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56920" y="2202480"/>
              <a:ext cx="3324600" cy="479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Copy System’s DATA 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56920" y="2956680"/>
              <a:ext cx="3279240" cy="548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Copy System’s CODE 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124080" y="1722240"/>
              <a:ext cx="1778400" cy="95976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124080" y="2476080"/>
              <a:ext cx="1855440" cy="20556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24080" y="2682360"/>
              <a:ext cx="1855440" cy="61704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295280" y="2895480"/>
            <a:ext cx="3581640" cy="2971800"/>
            <a:chOff x="1295280" y="2895480"/>
            <a:chExt cx="3581640" cy="2971800"/>
          </a:xfrm>
        </p:grpSpPr>
        <p:sp>
          <p:nvSpPr>
            <p:cNvPr id="75" name=""/>
            <p:cNvSpPr/>
            <p:nvPr/>
          </p:nvSpPr>
          <p:spPr>
            <a:xfrm>
              <a:off x="3124080" y="2895480"/>
              <a:ext cx="0" cy="182880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95280" y="4876920"/>
              <a:ext cx="3581640" cy="99036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Generate Installation Report, which should be sent to the next higher up off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124080" y="2895480"/>
            <a:ext cx="5213520" cy="2133360"/>
            <a:chOff x="3124080" y="2895480"/>
            <a:chExt cx="5213520" cy="2133360"/>
          </a:xfrm>
        </p:grpSpPr>
        <p:sp>
          <p:nvSpPr>
            <p:cNvPr id="78" name=""/>
            <p:cNvSpPr/>
            <p:nvPr/>
          </p:nvSpPr>
          <p:spPr>
            <a:xfrm>
              <a:off x="5105520" y="4562280"/>
              <a:ext cx="3232080" cy="46656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Create Parameter 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24080" y="2895480"/>
              <a:ext cx="1905120" cy="119988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24080" y="2895480"/>
              <a:ext cx="1981440" cy="180000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05520" y="3895560"/>
              <a:ext cx="3232080" cy="46656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Copy Data file struct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art I – Software Installation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257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ype in DOS prompt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:install c: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o install NRD-CSR from floppy drive A: to C: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o upgrade your existing NRD-CSR version 1.0 or later, use the same command as given above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 case you fail to configure a database, use the following command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:\NRD-CSR&gt; NRD-CSR install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ile upgrading existing old version, your database will be upgraded on first log-in after upgrading the NRD-CSR system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stallation Step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761760"/>
            <a:ext cx="8001000" cy="556236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sert floppy in the Drive (say A:)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OS -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:\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install C: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[and press enter key]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nswer all the questions correctl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reate DOS batch file for easy access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Window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ption 1: as per DOS by invoking DOS prompt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ption 2: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rt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Run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install C: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[click on OK]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nswer all the questions correctl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reate shortcut of nrd-csr.exe in Desktop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blem?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In case failed to configure initial database use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:\NRD-CSR&gt;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RD-CSR INSTALL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Refer manual for detailed instruction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art 2 – Database cre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01000" cy="46483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During configuration of any database it does the followings: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dds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base folder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/ sub-director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dd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quired file structure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in the new folder [blank]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ets required parameters for auto generating interest re-investment (IR) transaction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dds o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to the database of type System Manager (user ID as mnnnnnnn)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ssword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of the new user is set to a default value as equal to the user code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609480" y="3124080"/>
            <a:ext cx="7467840" cy="2268720"/>
            <a:chOff x="609480" y="3124080"/>
            <a:chExt cx="7467840" cy="2268720"/>
          </a:xfrm>
        </p:grpSpPr>
        <p:sp>
          <p:nvSpPr>
            <p:cNvPr id="89" name=""/>
            <p:cNvSpPr/>
            <p:nvPr/>
          </p:nvSpPr>
          <p:spPr>
            <a:xfrm>
              <a:off x="2971800" y="365760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pe01562_" descr=""/>
            <p:cNvPicPr/>
            <p:nvPr/>
          </p:nvPicPr>
          <p:blipFill>
            <a:blip r:embed="rId1"/>
            <a:stretch/>
          </p:blipFill>
          <p:spPr>
            <a:xfrm>
              <a:off x="609480" y="3124080"/>
              <a:ext cx="2154240" cy="226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3657600" y="2666880"/>
            <a:ext cx="3657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Actual Installation ..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6094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Where are the files/folders of NRD-CS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0020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n the completion of Installation Procedure, a directory (in the name of NRD-CSR) is created in the drive. Some of the useful files in NRD-CSR are as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RD-CSR.exe: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This is the software. It is convenient to create a shortcut of it on the desktop for east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erial: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This folder contain the soft copy of manual and PP presen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nnnnnnn: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This is the database folder (nnnnnnn is the part-1 cod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nnnnnn.txt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is is the installation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6094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nus in NRD-CS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60020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NRD-CSR is a Menu driven DOS based package / 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ere are 6 Main menu items including ‘Exit’ for logging out and close the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esired menu item can be changed by using ARROW keys &amp; Enter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ess F1 on the menu item to see its work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ess ‘Esc’ key to close a sub men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6094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lp in NRD-CSR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447920"/>
            <a:ext cx="7467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ress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F1 to display help messag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about working of the highlighted menu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ere is one main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enu item for Help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is help system 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ull help about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working of the NRD-C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arious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ata item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 few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efinition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on NR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 few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Frequently Asked Questions (FAQ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oft copy of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anual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nd all the Power-point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resentations are availabl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in the folder ‘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aterial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’ under NRD-CS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eneral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4479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res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1 any where to get help messag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relevant to the recent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res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2 to popup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available codes, if a code is to be entered in tha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o add new record press F2 or Ctrl+N as displayed at the bottom of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o delete an existing record press F3 or Ctrl+T as displayed at the bottom of the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ve changes, press Ctrl+-W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andon changes, press ‘Esc’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key and confirm, if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RD Schemes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858000" cy="46483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esently, there are 5 schemes as below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1. NRE – Came in 1970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2. FCNR – Came in 1993. FDs only in FC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3. NRO – Automatic on RI &gt;&gt; NRI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4. NRNR – Discontinued w.e.f. 01/04/0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5. NRSR – Discontinued w.e.f. 01/04/0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gin &amp; Logout in NRD-CS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Run the executable NRD-CSR to get Login Prompt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ou need to provide a valid user code. Press F2 to popup available user code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rresponding password for the selected user is required to be typed in Password, when asked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n successful log in NRD-CSR menu will appear on the screen.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o logout use the last menu ‘Logout’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op most line will display, NRD-CSR Version, then Current Reference Period and at the right Today's date as set in the PC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lease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nsure the date is correct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. Otherwise, logout and change the system date of the PC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Routine Activities</a:t>
            </a:r>
            <a:br>
              <a:rPr sz="24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t branch level)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925040" cy="38862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Data Input: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For the first time, initial databas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for existing accounts is to be built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er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all live/active accounts with their opening balance and interest accrued as on the beginning of the reference period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r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after downloading from your own system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2. Validate the data: The data should be validated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mmediately after building the initial database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ffff"/>
                </a:solidFill>
                <a:latin typeface="Times New Roman"/>
                <a:ea typeface="MS Mincho"/>
              </a:rPr>
              <a:t>Statutory Warn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03848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66"/>
                </a:solidFill>
                <a:latin typeface="Times New Roman"/>
                <a:ea typeface="MS Mincho"/>
              </a:rPr>
              <a:t>    </a:t>
            </a:r>
            <a:r>
              <a:rPr b="1" lang="en-AU" sz="2400" spc="-1" strike="noStrike">
                <a:solidFill>
                  <a:srgbClr val="ffff66"/>
                </a:solidFill>
                <a:latin typeface="Times New Roman"/>
                <a:ea typeface="MS Mincho"/>
              </a:rPr>
              <a:t>NRD-CSR package is designed for recording of all Non-Resident Deposit related Accounts and their transactions for submission of comprehensive Single Return to Reserve Bank of India only and </a:t>
            </a:r>
            <a:r>
              <a:rPr b="1" lang="en-AU" sz="2400" spc="-1" strike="noStrike">
                <a:solidFill>
                  <a:srgbClr val="ccffff"/>
                </a:solidFill>
                <a:latin typeface="Times New Roman"/>
                <a:ea typeface="MS Mincho"/>
              </a:rPr>
              <a:t>not for accounting purpose</a:t>
            </a:r>
            <a:r>
              <a:rPr b="1" lang="en-AU" sz="2400" spc="-1" strike="noStrike">
                <a:solidFill>
                  <a:srgbClr val="ffff66"/>
                </a:solidFill>
                <a:latin typeface="Times New Roman"/>
                <a:ea typeface="MS Mincho"/>
              </a:rPr>
              <a:t>. Such data are maintained and validated only for such statistical purpose. </a:t>
            </a:r>
            <a:r>
              <a:rPr b="1" lang="en-AU" sz="2400" spc="-1" strike="noStrike" u="sng">
                <a:solidFill>
                  <a:srgbClr val="ffff66"/>
                </a:solidFill>
                <a:uFillTx/>
                <a:latin typeface="Times New Roman"/>
                <a:ea typeface="MS Mincho"/>
              </a:rPr>
              <a:t>Banks may please monitor accounting issues and rules described by RBI</a:t>
            </a:r>
            <a:r>
              <a:rPr b="1" lang="en-AU" sz="2400" spc="-1" strike="noStrike">
                <a:solidFill>
                  <a:srgbClr val="ffff66"/>
                </a:solidFill>
                <a:latin typeface="Times New Roman"/>
                <a:ea typeface="MS Mincho"/>
              </a:rPr>
              <a:t> time to time in regard to validating transactions of various schemes. NRD-CSR is not intended to validate the same. Such </a:t>
            </a:r>
            <a:r>
              <a:rPr b="1" lang="en-AU" sz="2400" spc="-1" strike="noStrike">
                <a:solidFill>
                  <a:srgbClr val="ccffff"/>
                </a:solidFill>
                <a:latin typeface="Times New Roman"/>
                <a:ea typeface="MS Mincho"/>
              </a:rPr>
              <a:t>responsibilities solely lie with the user banks</a:t>
            </a:r>
            <a:r>
              <a:rPr b="1" lang="en-AU" sz="2400" spc="-1" strike="noStrike">
                <a:solidFill>
                  <a:srgbClr val="ffff66"/>
                </a:solidFill>
                <a:latin typeface="Times New Roman"/>
                <a:ea typeface="MS Mincho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Routine Activities – Contd.</a:t>
            </a:r>
            <a:br>
              <a:rPr sz="24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t branch level)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3. Process the data: It computes closings of account balances, accrued balances, codes for residual maturity, IR transactions, as applicable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4. Cross checking: You are required to tally the closing balances, as generated by the system, with your bank information/ledger etc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5. Aggregation: It converts the data (of accounts and their transactions) in summary form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6. Reporting NRD-CS Return: The aggregated data is to be copied in the floppy for sending the same to the higher-up offices. 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7. Back up: It is a must before step 8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8. Advance Reference Period: To go to the next month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he above sequence has to be repeated every month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Routine Activities – Contd.</a:t>
            </a:r>
            <a:br>
              <a:rPr sz="24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t branch level)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imes New Roman"/>
              </a:rPr>
              <a:t>Step 1: Data Inpu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Data consists of two things: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Account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Transaction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Data Handling\Add-Update-Delete Data” Menu is to be used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Data Input can be done in three ways: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Manual entr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Extraction from bank’s own computer system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Combination of the above two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Routine Activities – Contd.</a:t>
            </a:r>
            <a:br>
              <a:rPr sz="24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t branch level) 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72428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adding sequence: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rious Codes has already been added during the installation.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ccount details with unique ID are to be added with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cheme, opening date, country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of depositor’s residency,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urrency, maturity date etc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. Existing accounts with their respective opening balances should be available before entering the data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Date-wise transactions during the period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Routine Activities – Contd.</a:t>
            </a:r>
            <a:br>
              <a:rPr sz="24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t branch level) 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64796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New Accounts can be added using the menu “INPUT\ Channel I \ Add-Update-Delete Data \ Add-Update-Delete Accounts”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Deposit amount of old accounts should be taken as the respective opening balances as on the beginning of the month (and not the initial deposit amount).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However, Value date should be entered as the actual value date (date of opening of the account) for deriving original maturity code of the account.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When you enter an account, it </a:t>
            </a:r>
            <a:r>
              <a:rPr b="1" lang="en-US" sz="2200" spc="-1" strike="noStrike" u="sng">
                <a:solidFill>
                  <a:srgbClr val="ccffff"/>
                </a:solidFill>
                <a:uFillTx/>
                <a:latin typeface="Times New Roman"/>
              </a:rPr>
              <a:t>automatically adds one transaction of inflow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 on the opening date of deposit amount 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ffff"/>
                </a:solidFill>
                <a:latin typeface="Times New Roman"/>
              </a:rPr>
              <a:t>O</a:t>
            </a:r>
            <a:r>
              <a:rPr b="1" i="1" lang="en-US" sz="2200" spc="-1" strike="noStrike">
                <a:solidFill>
                  <a:srgbClr val="ccffff"/>
                </a:solidFill>
                <a:latin typeface="Times New Roman"/>
              </a:rPr>
              <a:t>ption</a:t>
            </a:r>
            <a:r>
              <a:rPr b="1" i="1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s available for the same, while loading data from the </a:t>
            </a:r>
            <a:r>
              <a:rPr b="1" i="1" lang="en-US" sz="2200" spc="-1" strike="noStrike">
                <a:solidFill>
                  <a:srgbClr val="ccffff"/>
                </a:solidFill>
                <a:latin typeface="Times New Roman"/>
              </a:rPr>
              <a:t>external files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Routine Activities – Contd.</a:t>
            </a:r>
            <a:br>
              <a:rPr sz="24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t branch level) 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6483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n addition to common data items, you need to enter the following additional information …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PF (interest payment frequency) and CF (compounding frequency)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1. In case of non-compounding, IPF = CF 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(e.g. IPF= 2 and CF=2 etc.)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2. In case of compounding, CF will be a multiple of IPF 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(e.g. IPF = 2 and CF = 4 etc.) 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3. Thus, CF can not be less than IPF.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Maturity date: The maturity date in Savings and Current accounts should be blank.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Routine Activities – Contd.</a:t>
            </a:r>
            <a:br>
              <a:rPr sz="24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t branch level) 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6483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ccrued Interest: Accrued interest opening balance, which has not yet been  deposited/re-invested into the account or remitted outward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Accrued interest balance is not included in the opening balance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 and it can be calculated by specifying last int. reinvestment (posted) date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uspense balance: In case of non-cumulative deposit accounts, in addition to the above,  you need to enter Interest suspense (opening) balance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ffff"/>
                </a:solidFill>
                <a:uFillTx/>
                <a:latin typeface="Times New Roman"/>
              </a:rPr>
              <a:t>Routine Activities – Contd.</a:t>
            </a:r>
            <a:br>
              <a:rPr sz="2200"/>
            </a:br>
            <a:r>
              <a:rPr b="1" lang="en-US" sz="2200" spc="-1" strike="noStrike">
                <a:solidFill>
                  <a:srgbClr val="ccffff"/>
                </a:solidFill>
                <a:latin typeface="Times New Roman"/>
              </a:rPr>
              <a:t>(At branch level) </a:t>
            </a:r>
            <a:br>
              <a:rPr sz="2200"/>
            </a:br>
            <a:endParaRPr b="1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48769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66"/>
                </a:solidFill>
                <a:uFillTx/>
                <a:latin typeface="Times New Roman"/>
              </a:rPr>
              <a:t>Date-wise transactions to be added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66"/>
                </a:solidFill>
                <a:uFillTx/>
                <a:latin typeface="Times New Roman"/>
              </a:rPr>
              <a:t>Inflows (4 types):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FI: </a:t>
            </a:r>
            <a:r>
              <a:rPr b="1" lang="en-A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resh inflow from abroad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LI: </a:t>
            </a:r>
            <a:r>
              <a:rPr b="1" lang="en-A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ocal inflows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PR: </a:t>
            </a:r>
            <a:r>
              <a:rPr b="1" lang="en-A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flows towards renewal/transfer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IR: </a:t>
            </a:r>
            <a:r>
              <a:rPr b="1" lang="en-A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terest Re-investment Transactions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66"/>
                </a:solidFill>
                <a:uFillTx/>
                <a:latin typeface="Times New Roman"/>
              </a:rPr>
              <a:t>Outflows (6 types):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PA: </a:t>
            </a:r>
            <a:r>
              <a:rPr b="1" lang="en-A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rincipal remittance to abroad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IA: </a:t>
            </a:r>
            <a:r>
              <a:rPr b="1" lang="en-A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terest remittance to abroad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PL: </a:t>
            </a:r>
            <a:r>
              <a:rPr b="1" lang="en-A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rincipal remittance locally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IL: </a:t>
            </a:r>
            <a:r>
              <a:rPr b="1" lang="en-A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terest remittance locally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LW: </a:t>
            </a:r>
            <a:r>
              <a:rPr b="1" lang="en-A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ocal withdrawals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TR: </a:t>
            </a:r>
            <a:r>
              <a:rPr b="1" lang="en-A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Outflows towards renewal/transfer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anual Return (Stat Returns) for NRD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858000" cy="46483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ere are 3 Stat Returns for NR Deposits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1. Stat 5 – For FCNR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2. Stat 8 – For NR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3. Stat 9 – For NRNR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us, no Stat Returns for NRO and NRSR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lease note !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8006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t is observed that reporting banks sometimes find it difficult in </a:t>
            </a: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  <a:ea typeface="Times New Roman"/>
              </a:rPr>
              <a:t>segregating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fresh inflows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from abroad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from that which are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renewed or transferred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imilarly, it may sometimes be difficult to accurately ascertain the various items under outflow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t is, therefore, suggested that </a:t>
            </a: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  <a:ea typeface="Times New Roman"/>
              </a:rPr>
              <a:t>banks develop internal codes to record these items separately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ff"/>
                </a:solidFill>
                <a:uFillTx/>
                <a:latin typeface="Times New Roman"/>
                <a:ea typeface="Times New Roman"/>
              </a:rPr>
              <a:t>Facility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le loading transactions from ASCII file, you can indicate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CR,DR,IN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s transaction type if necessary. However, these are to be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changed to actual type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efore finalizing data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Important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item “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local withdrawal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” should 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  <a:ea typeface="Times New Roman"/>
              </a:rPr>
              <a:t>includ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debit from the accounts such a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fts, donations, taxes, local redemption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under NR(NR)RD and NR(E)RA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miscellaneous item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oreover, 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  <a:ea typeface="Times New Roman"/>
              </a:rPr>
              <a:t>information on savings/current account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of the NRI deposits 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  <a:ea typeface="Times New Roman"/>
              </a:rPr>
              <a:t>should also be included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on the same lines as that of other term deposits with a specific code for the maturity period (i.e.  9)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will enable stock-flow reconciliation of NRI deposits and bring about consistency in the external debt data with the corresponding items under BoP Statistic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ransactions &amp; Balances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962520" cy="30481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 algn="just">
              <a:spcBef>
                <a:spcPts val="601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flows i.e </a:t>
            </a:r>
            <a:r>
              <a:rPr b="1" lang="en-AU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FI, PR, LI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80880" indent="-380880" algn="just">
              <a:spcBef>
                <a:spcPts val="601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terest Reinvestment i.e. </a:t>
            </a:r>
            <a:r>
              <a:rPr b="1" lang="en-AU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IR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80880" indent="-380880" algn="just">
              <a:spcBef>
                <a:spcPts val="601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rincipal Outflows i.e.  </a:t>
            </a:r>
            <a:r>
              <a:rPr b="1" lang="en-AU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PA, PL, LW, TR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80880" indent="-380880" algn="just">
              <a:spcBef>
                <a:spcPts val="601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terest Remittances i.e. </a:t>
            </a:r>
            <a:r>
              <a:rPr b="1" lang="en-AU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IA, IL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1640" y="1294920"/>
            <a:ext cx="4305240" cy="49532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crease closing balanc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crease closing balance &amp; reduce Accrued Int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Reduce closing balanc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4. Reduce Accrued Interest and suspense balance (excess amount adjusted with Accrued interest balance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No impact on the account closing balance)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038480" y="2057400"/>
            <a:ext cx="38102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ease contact on telephone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22 – 2657 36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rough e-mail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rdcsr@rbi.org.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990720"/>
            <a:ext cx="5257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Any query/problem…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e01562_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1542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tat Returns - Limitations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858000" cy="46483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o not cover all Schemes of NRD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o not provide Residual Maturity Profil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o not cover flows of funds as desired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o not track high value transaction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o not cover country-wise data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any other limitation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mportance of NRD Data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858000" cy="46483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or the compilation of these two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ndia’s External Debt Position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ndia’s BoP Position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evel-wise importanc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ata demanded not only by Ministry of Finance, but by International Institutions (BIS/WB/IMF/CS etc.) also.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mphasis for Quality data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858000" cy="46483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ranches have to ensure entry of good quality data.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nsistent (as per CS Format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rrectness (as per their book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rrectness (as per RBI’s circulars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imelines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verag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RD-CSR System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858000" cy="46483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mplemented in April 200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ingle Return (covering all the schemes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mprehensive Return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onthly reporting (like Stat Returns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n due course, to replace Stat Return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t is DOS based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ultiple database facility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t can work in LAN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bout the NRD-CSR Software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858000" cy="46483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e floppy should contain 4 files as below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1. NRD-CSR – Main softwar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2. PKUNZIP –Software for unzipping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3. INSTALL – Batch fil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4. README --Instruction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stallation Procedur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87692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e installation procedure consists of 2 parts: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90320" indent="-4903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stallation of Software -- Common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90320" indent="-4903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reation of Database     -- Office specific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e installation steps are given in the Manual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irst part     -- Single command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econd part – Furnish 5 types of information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) What is the type of your office?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atabase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can be of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942840" indent="-49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nch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942840" indent="-49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dal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942840" indent="-49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d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5257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1:03:11Z</dcterms:created>
  <dc:creator>Prithwis Jana</dc:creator>
  <dc:description/>
  <dc:language>en-US</dc:language>
  <cp:lastModifiedBy>user</cp:lastModifiedBy>
  <dcterms:modified xsi:type="dcterms:W3CDTF">2007-04-26T19:37:40Z</dcterms:modified>
  <cp:revision>139</cp:revision>
  <dc:subject/>
  <dc:title>PowerPoint Presentation</dc:title>
</cp:coreProperties>
</file>